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92A-D1D0-4C17-AD7C-6D863DC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833-C8D7-4028-8BFE-4DE36271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19F37-EF67-4132-8F03-2FD00F27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EAD18-515E-4555-A6C9-C3381A4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398B9-CDEA-4CF4-8418-A95A7EB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521E7-F39E-4C46-A374-18D20A4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789A8-A5B3-4F96-868D-0BAEB44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15DB-EEA0-45B7-897D-37AD56F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C85A6-A8A7-4E88-924D-42D9453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9AE0C-6510-4403-AD1D-71D97E2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72986-283E-4E2C-A63B-1D3C4D9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29DF4-DB2D-46FE-B461-75A3092B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3B0-2F6A-4B8F-9320-9CEDB23A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C9698-4717-4DF2-9456-58179DA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FFF89-FDD3-48BF-AF39-9882A8E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941B-6AAD-4B41-B291-B1E73BA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FB583-6697-4EDB-B39E-5E26C69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9444B-5690-418A-9B21-93DBE93F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DAA3-3BD2-430A-BC8E-A8BF688C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C88FD-51A5-47F9-B535-A37ED6C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87C01-4A1C-4217-9A48-D442AA4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B4C40-08CE-477A-8510-A3DB3461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B0B07-18DD-43C9-B211-C4293531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647-FBD1-40B7-9F1F-26010C45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EF695-0A91-46A1-A419-56FDE0E1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F7B43-CFBD-487A-906C-34B018C7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53C28-85C8-41C4-A5DC-7E2C0DF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A62A6-1030-46E4-B49E-A506CC9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1597B-5F03-4E9A-A2FA-A8EBFE7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9974-EFCC-4F87-B5E8-B92C613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4C64D-65D2-48B3-BABB-1800227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34C09-91AF-4740-B98D-62F32CAC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8E45-3CB4-4466-9C25-917A82A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18669-99D9-4C90-960D-F199B05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B716-2746-41A5-A44C-DD2CB35E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236DB-EE80-4A12-A240-D969A1C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1D9FD-5A62-4EC4-913C-FAAE1907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2125E-8E8E-4F40-A458-44470639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3D002-CAB1-4FA9-B9E4-CF8EDF88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29A3-F3C6-46EB-8802-5542433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3743A-F0F9-4BDB-8153-7423F210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9C3A0-BA95-4807-BF96-0AD9B99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97CA0-B216-404D-86BE-30FC551B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80244-E0B7-4262-8E3F-814DE74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A7D61-7271-4BBD-8405-9CBB07F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383A-A9FF-4FBD-A08B-436255E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F43C3-5FE0-4C52-8669-19E85D2A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BBE4E-76FB-4083-B01E-3DEA732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1A706-5F15-47F8-869E-465EAF6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98D5F-7016-4534-982B-CD4402CC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90877-48E1-4614-9EE2-BBEA53DC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15FAA-4022-4458-A568-9F9D90E4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60E58-B885-4BF8-9E38-021BE4C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86778-4CF9-4D8F-9C19-BF80816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2CC7C-3476-437A-9597-4828FFA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6B465-1940-441E-9BE9-A3AA0554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0E3-E6F6-4EEC-9BE6-CE1560C9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0DCDA-BBDB-4116-B8AB-D308C36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08B52-60D5-4969-ADDF-1F39CFF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AE501-841E-4FEE-A6BF-7DA3890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BDC5B-2207-4623-8B19-9A50ACC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CF4DF-7D5A-4DA4-87A8-ADD5B97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C9573-6BE5-4CA2-963C-B099B03C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188D9-23DE-4C25-9D51-B2C84009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8E3A2-48EB-4A23-91C1-2198FAB8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D5B53-5050-4786-8122-8E1A5B42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393A2-E8CA-4DC0-B017-FC3CBFC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53D-2D37-4D08-A5E3-C917209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BA956-9DC6-45E9-BD5A-7CFA561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F19EF-BF94-4BA5-A8B0-332045D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805A8D-B7F1-4BD5-B325-0D855045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4B057-5A51-4AFE-8B43-D968683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5D012-2735-4BA5-BB91-29DBC2E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B981D-DFFB-4F80-ADBB-BEA2B732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39D11-F798-40CF-AE34-B6F3124A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43EA6-DD10-41CA-A381-307F9016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A22857-19E9-4A97-8085-46D8F1BD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29FCB-1B18-4C59-AE3B-31D80145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0E4-30B5-4476-AEDE-21C03844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773C8-D8F7-4C99-AA5C-D5634AB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7B0AA-D79C-419D-B7E5-79F628D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04126-1001-4BED-98BD-98C74ED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6C78B-9B2C-4D18-B31F-FE0B9F6F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98624-D044-48C5-B6F8-7A0E50A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EBAC2-72FC-4750-8B53-7BB3BF76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537ED-CE38-4F53-92B2-C3014D0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4C081-0DEF-43A2-B7C9-1D429283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C1DF4-2FB1-484C-8202-ACE5D0D8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02217-2CF5-42F3-B197-E2825F9E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EA43-BB81-4684-8B58-98B496B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7E1E0-11BD-47C5-928C-1A2D6C92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DBFF1-E5B1-4564-9A4E-875ABD76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B8936-6E5D-479E-AEEA-5ABD33BD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09279-E381-4597-8E89-6C958790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A224D-7380-48A5-ACE5-9B2EE78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2A8D3-E3BE-4C13-A8BE-C5D0A6B1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CDC7C-5047-4F89-B740-DECCD564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63D70-5D2B-4974-9814-955A310F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C8357B-9E14-4E2F-AE83-CBE908B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B93DD-89A3-45C1-AB7A-5133C0BD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933A-7BE4-41B2-A1BF-90FE303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A4746-88D6-4C66-8FB2-03029BB5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9D834D-C499-498A-843A-0E4A327A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C4B28F-B9AC-41A3-9D85-EB44B302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3D5BB-6871-417D-96B1-2690AD72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32B6C-8EE7-403B-AEB1-430BE70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CDF02-CD96-475A-97B4-89A91B82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E14C6-978C-4B57-A269-C59106AE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14D0F-1F0F-4F7E-87F3-4BFBC96A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05C16-454A-4E25-A3FA-D5B2141F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29C13-8E07-41BB-BE67-DA147CC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C8C-C91A-4770-BE8A-D59F631C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5A1-CDDA-4FAA-9A67-62B1A50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E08A9-6A64-4C0B-A43A-B49C76B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76457E-350A-42E3-BD7B-C0E985C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80AAE-152E-4B03-82D0-C02A0112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E93EF-1EF2-434D-AB83-ACBD8E69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B91F2-52A1-4EBA-8FEA-6B27F8BD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EFA81-6906-47A2-9E6E-6ABAD42F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5F84C-496D-4CCB-A215-2F65557A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8226E-B0D3-480A-B22A-75136172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D4562-2D19-437B-AAEB-0478260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A65A9-5006-463A-88FC-3B1C8F0E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C14-874C-4047-A5F9-F1DD9C4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030F1-8114-42AA-A425-25142F4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652785-479B-4282-8FAD-513A761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0C4C6-12C7-4A8B-B53C-6E3920AB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E39D2-28A0-473A-A017-08A011BE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814CE-94D0-4FB0-828A-CB4CE8A2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A74143-2C4C-4D30-B341-4CF7B80E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19AEB-9FA4-4D04-B7F2-EBB7A0D4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83CBD-D563-4863-B078-FE1E001C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25074-84B2-402A-B8E1-70CA9075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9DCB0-4F14-41C1-861F-0BFDD3E1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09E-6BB4-4D4F-9657-DEF295F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F45A1-2402-4F3C-BD8B-059F8FBC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97DD6-5D7E-424C-B8FF-7EA1E5C3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B9A32-4BF6-44BA-B191-FAF9D5E1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78D72E-2091-434B-9D06-31DC55F2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D0905-D466-4815-854B-447583B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0CBD1-B79A-43C2-8D32-E22F7AC9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B02B57-0AB8-4FEE-923B-348F3A4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FF0C4-27D6-439B-BB2D-CEB9579E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E2B53-F4FE-400A-A61C-DDBFA332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0E9C4-ACEA-49BD-9163-292F0FD6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F0A1-4AB6-4EA0-AE3E-5A93D142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28725-7361-41E8-97EF-2C39737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E26BF-D545-47A5-80B9-D1470CA7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CE1D5-BB7D-4245-BA2C-27DFF5C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1BA33C-C3AB-421F-BE22-2B345BB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F12BF-C9D1-4300-88D2-1652285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C2B20-CE6B-47CA-BFC4-B7DD27D9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E36EB-C4D1-424F-8154-4F54596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0C55F-DC94-41B4-B119-99B0CA81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0D867-C105-4470-B74C-84974DF1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C2476-6D99-4B84-9A85-D33C530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C957-5026-4DC7-AF64-BA7193AC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4CA71-9BC9-407E-9563-F4CEF660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1CDFB-36A7-47C2-B13A-9FFFF731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E66BE-4B31-4BED-8596-CAC830F5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32C30-40F3-43E0-A33C-3A99F0DB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2C7F2-2C8D-43FA-81E9-E25A7C8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2740A-D10F-4502-98E6-3186E31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A3BC2-8BA9-426A-AB10-96377A8F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3DFF3-903A-4F7F-81B9-42835D1A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42CAE-B5F6-46AF-AF90-A21711E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B7450-F4EC-4700-9AF5-144CF35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9AD0-E2C7-40B4-8723-FC258043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F637D-65EE-482F-8C21-EA1BAE6E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DCB22-6CFC-430D-B6E6-1FF366CF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A5E0D-7A35-41D9-A56F-B2051EAB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6C8D-2305-450D-AE71-1954156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2780-B927-4D61-8AB1-EA02DE6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F184-CF55-4C79-91AD-872B2F5C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0902-9E72-43FC-BD80-0D8C6D47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263-6648-49AB-A98D-CC62A13F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6738-B61E-4B45-A2DC-58400C9B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62BA-93B9-410A-A622-AEEB38F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7101-FF35-4682-97FE-30B70269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6CD0-2753-40FB-A68C-2CF20E9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42AD-16FF-4921-A09A-AE7F821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5A0D9-4687-411A-8005-DCA33EDC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A48B-824A-4A70-97FB-8F0961A9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C79E-7A45-4A60-8E93-99ED89BE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3E6D7-363E-4730-8D59-7F18A087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CD87-4929-4AB2-BCB0-7717C38A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8DE-A563-4B3B-A672-416994B2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97C1-4F8B-4FF2-BD44-F3300FBD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6896-F70D-49CC-95D6-6C4B618A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8F12D-5ABD-4695-8AC5-188F2DD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E458-8541-491C-86F7-8ECC93E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54D0-7B37-4D7F-A00A-862D9AA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EA47-2401-4A3E-9DB7-1F8D76A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1738-3501-4F47-98C0-AC3CDAF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018B4-6D9C-4149-899B-F6C061DA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09B1E-D7F7-4275-8851-7272DC53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9456-5892-4926-BC52-4FA5C167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2D5-A2AD-413C-B71C-92124874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56F8-CE83-4C2B-AD3A-2D19652B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1F95-5669-4B68-A710-0448782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7DEF-77C9-4834-A54E-EF60B08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E2998-1E5B-4A8A-AEF7-5226734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CAFF-AB85-4365-917D-CF03D0A1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3867-A355-4DAC-8C52-B2A7BC0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FF43-D8F6-4185-9866-396511E2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40EE-5AC8-42AE-AA60-5233D0B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9004-03C7-46C6-9B29-8AA1E8B3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5ECF-42BB-48DE-9105-76A17B03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350-5E20-4219-8306-ED82255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AE41-2C7B-4D23-9DAC-52F0015E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D83C-0BAC-429A-A99A-C434DE0B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B9039-F337-471B-9AA6-E270B98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2A35-1EDD-4564-8940-6E5CE0F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35E7-D52B-4A46-AC6A-58526F6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AA0A-674A-4972-A5E9-E954B6F3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B8318-D799-479A-B5BC-C0D2B3F3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C61C-9567-49B0-9E06-76E45C0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5A303-3CA2-4E14-B4C2-8EEDDA0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C45A6-8409-4326-821D-03E9E96B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1AD-7B36-449F-B14C-71D4E281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CFFC-91BD-4668-8B3B-E634B9F9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1A52-C7FD-40A0-B338-1B52EFD4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60A3B-94AB-4294-BB92-CD4B930F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D444B-D5AD-430B-B449-9955D5FC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7982-567D-4D4B-910B-AC25412B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0D4B-EE8B-4383-98B8-1403E1D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EBD2D-3EFF-44D7-B6CD-CD24387C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8590-0233-4045-9520-8A7C18E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6F3A7-1AE9-4548-9DBD-9EBFB7DB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72401-75A3-47E3-A1C2-89B3907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1CD-3AC5-4D4D-BE3F-BBCC2E7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153C-02F0-4E83-9756-3E751179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248FB-D859-4EC7-B9F4-4E2EF07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5FF49-94E9-425C-AAE6-C2461F6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B07C9-FFB4-4F9C-83C2-75C42447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3323-CFA4-4CB2-8360-6901FB96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D4A4-0CED-4F4F-B7A1-5AE21C51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DF68F-3C0F-45C4-A4FF-9BEC6EF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94C8-76EA-44DC-A7CF-DBF8488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71E8B-4140-46FD-B1FC-CF1302F8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3FDEB-644B-40BD-B668-3F427424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AE4-0744-4FA6-A529-3DD2675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D08AC-7DD2-4B56-BF01-31661F84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E0439-F346-4EA7-8744-BF52D39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BE79A-7691-46DC-9FCD-4752C9D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0727-2978-4D5F-A7C5-A463833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30615-0A1E-4905-A05D-AE0F7BFA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F0346-598E-4C03-B0AD-EFFF60E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A06A-C8DB-487A-832A-0E8A6F31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2BCDC-8E82-441B-81C7-0BCA34F5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BAA41-C83A-43D5-80EA-CCAA13B7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5222-E803-4F74-AE9B-89824CA4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7A9B-D94C-45E5-8D1B-AC560D1B79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28F-9AB6-4C89-B534-C18A69C9F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02B1-DFA1-4831-8666-542ADDA65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DB1-08E2-4ADC-98A0-28BA373E4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3652-BC6E-4551-B0CB-EC95D0A8D6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59A-EE70-48C7-92D5-2A4ED4EA9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D88-6FD9-4FC9-95ED-03675A9BB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4B6-6B73-4CCC-9B0D-DBB77C0AE4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F4EF-2793-4A15-A6AF-3798C70D0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534-92E1-43F9-B2B3-71D848101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E4E2-0607-4E9D-A9E4-4279E73712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8C59-0287-4DBD-B230-2EC4E45558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916-934A-45CA-90CE-7FB7112C1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4AF1-5A0B-47A4-BF7B-2BC3C2DFA8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F4DF-1D03-4598-B0D4-7DCBDCC3E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55D6-1E1A-428A-A093-D760B6F4B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9808-96D1-4097-8513-6F9AB1D918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B58-CC07-4F2C-A7BF-B922B87D55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4E0-8BB2-4EB8-B271-6E4DB913C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781-CE21-4EB7-B0E9-7C20F55D3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FAD9-2161-4CBF-86F1-2846BE540D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7295-CB25-4DB6-8681-AC7D0B55C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773-542F-4F1D-AC7B-72AD874CD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105B-387B-4C4E-BD45-E003587B9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AB6-E20F-42A8-B4F4-DD4E5A8562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599B-30C0-47FD-80C3-1013EA27D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604-0BF4-4CD0-BDAE-F3561140F0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3399-FA11-4993-B6C8-F7F361831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EEF-6BA0-4399-93EB-A449C71423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45E-C634-4D51-89AB-33E82FB18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79F-195D-4619-AEB6-FC8707FF2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DB3-CDEC-4913-8801-E5D2A8369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470D-19ED-4FCB-93E2-26F0EFE32C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4F8-7E91-40DB-B931-123EC2EEF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B412-0481-4A2A-904D-CFCFBAFA8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4C26-4FE3-4EF3-88D2-496857D76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4EAD-17F7-4F1B-BEDC-88623DCB9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175-EE45-45C1-86A3-060C8FA345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5BC-DC46-417A-99C2-4E8C3EB17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453-DD55-48F9-ABCE-213699A21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1280" y="3191040"/>
            <a:ext cx="378144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9160" y="500040"/>
            <a:ext cx="8905680" cy="5953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987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5608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012000" y="2133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732720" y="2133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451640" y="2133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47636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220968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2987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70836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45608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5219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6012000" y="2622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6732720" y="26226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451640" y="2622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468360" y="352908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468360" y="396252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468360" y="551664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468360" y="5950080"/>
            <a:ext cx="5256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9410" descr=""/>
          <p:cNvPicPr/>
          <p:nvPr/>
        </p:nvPicPr>
        <p:blipFill>
          <a:blip r:embed="rId1"/>
          <a:stretch/>
        </p:blipFill>
        <p:spPr>
          <a:xfrm>
            <a:off x="128520" y="757080"/>
            <a:ext cx="8886960" cy="5696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68360" y="25797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2843280" y="25797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68360" y="299736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39640" y="5229360"/>
            <a:ext cx="215928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21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468360" y="5950080"/>
            <a:ext cx="21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7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